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BDE-A76D-4388-8910-6A2F7409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CB23-EF7E-4808-9F2B-4CE58790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215-00FB-4B74-9754-590243CF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49E-B4AA-4B71-9603-590F8DC4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DBC5-3065-4CEC-AE99-2C649456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F0CE-5C2A-473A-9016-55655AED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E015-A295-4768-8F5B-95E7A823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EAEA-A059-4D28-A48B-71E3C894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C38B-502B-492A-AE02-4EFD9BDA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C024-3394-4C9E-B272-04EF32E1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6494-37B6-4C7E-A475-DDAC5BA3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F6E-499B-4983-9A59-062C46E0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E617-FD42-44EE-9755-879F695D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D4F0-AE3F-42C9-904D-45C8AEF4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9E11-FD8F-4794-A0ED-8ED5C119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2280-B38B-4A08-9A26-BC2CC953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46D4-1458-4661-8476-8F556793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5333-51EC-422F-81FD-34925A82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0B7-FC23-44B5-A4DE-FEB116BB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A25-3A16-4FDB-9883-7B5F801D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7BEF-FF4E-4A05-B44F-D39A3AF7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274-55BF-48DE-9A2E-F9EA4B3B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A5C6-DF13-4274-8F2F-A0E1B1A2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7BF-E652-4822-8D40-6D2EFF9A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AD03-259F-4071-A586-6F45D5C9F4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5323-3A0C-49E1-B204-6346DEC8A0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553080" cy="4876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Genet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Write a key. Include both alleles.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= pointed 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= round 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Write a “cross” to show the parents’ genotypes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 one= 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 two= 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Write the parents’ genotypes (letters) around the outside of the square.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048120"/>
            <a:ext cx="4572000" cy="2971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0481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4495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2666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                                 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200400"/>
            <a:ext cx="685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20574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3733920"/>
            <a:ext cx="7333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Tw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Fill in the square- copy letters down and across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3048120"/>
            <a:ext cx="4572000" cy="2971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30481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4495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666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                                 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3200400"/>
            <a:ext cx="685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20574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733920"/>
            <a:ext cx="7333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Tw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505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809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40384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3048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5029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5181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5410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3048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55627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Write the percentage chance for the offspring’s genotyp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2895480"/>
            <a:ext cx="4572000" cy="2971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28954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343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2514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                                 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3048120"/>
            <a:ext cx="685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9051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81280"/>
            <a:ext cx="733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Tw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3352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33526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48769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3124080"/>
            <a:ext cx="25909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= PP (Homozygous Domin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= Pp (Heterozygo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= pp (Homozygous Recess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Write the percentage chance for the offspring’s phenotyp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3048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5% chance of having Pointed 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ry it yoursel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certain species of dog, a black nose is dominant over a pink no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the genotypes and phenotypes of a cross between a purebred dominant male dog and a purebred recessive fem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ere are the Step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key. Include both alle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“cross” to show the parents’ geno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parents’ genotypes (letters) around the outside of th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square- copy letters down and acr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percentage chance for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spring’s gen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percentage chance for the offspring’s phen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ndel’s Laws of Heredi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enetics Te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78000" y="1599840"/>
            <a:ext cx="380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eb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9836" b="3708"/>
          <a:stretch/>
        </p:blipFill>
        <p:spPr>
          <a:xfrm>
            <a:off x="0" y="19810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enetics Te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78000" y="1599840"/>
            <a:ext cx="380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mozygous reces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mozygous domin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0" b="3708"/>
          <a:stretch/>
        </p:blipFill>
        <p:spPr>
          <a:xfrm>
            <a:off x="0" y="1981080"/>
            <a:ext cx="4724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enetics Te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78000" y="1599840"/>
            <a:ext cx="3808440" cy="453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648320" y="2209680"/>
            <a:ext cx="3886200" cy="66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all = domi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warf = reces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an never be heterozygous recessi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enetics Te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12964" r="0" b="61120"/>
          <a:stretch/>
        </p:blipFill>
        <p:spPr>
          <a:xfrm>
            <a:off x="5057640" y="2187720"/>
            <a:ext cx="3451320" cy="1172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57800" y="4106880"/>
            <a:ext cx="2514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enotype = 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otype = 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enetics Te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ntal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filial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fsp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hybrid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ing between individuals focussed on one tra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6677"/>
          <a:stretch/>
        </p:blipFill>
        <p:spPr>
          <a:xfrm>
            <a:off x="5089680" y="2133720"/>
            <a:ext cx="3452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teps to solving Punnett Squar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ample # 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certain species of mouse, pointed ears are dominant over round 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the genotypes and phenotypes of a cross between two hybrid pointed-eared m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01:11:03Z</dcterms:created>
  <dc:creator>Barb Lalevee</dc:creator>
  <dc:description/>
  <dc:language>en-US</dc:language>
  <cp:lastModifiedBy>Tricia</cp:lastModifiedBy>
  <dcterms:modified xsi:type="dcterms:W3CDTF">2007-02-21T22:42:40Z</dcterms:modified>
  <cp:revision>30</cp:revision>
  <dc:subject/>
  <dc:title>No Slide Title</dc:title>
</cp:coreProperties>
</file>